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.jpeg" ContentType="image/jpeg"/>
  <Override PartName="/ppt/media/image30.jpeg" ContentType="image/jpeg"/>
  <Override PartName="/ppt/media/image12.gif" ContentType="image/gif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38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1.gif" ContentType="image/gif"/>
  <Override PartName="/ppt/media/image14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0C37-AA1A-4D9F-B212-03DC09BB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0B03-7D94-4E79-A0E4-E6AB8DA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3417-81CD-484A-858F-8B9CFAEC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31EE-C8EF-45DF-9038-FDC14BA2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E7E4-778B-48C2-B75F-8A0365A8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810-7737-4EB6-8BA2-1CC2C7FF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6F81-F6A6-4496-9F7C-443492DD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2C11-AE51-4DB3-847B-D77D575D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9150-2A85-4078-8F50-D4BD84F9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E151-0653-4189-A89B-FDD7F29E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1DDE-596D-4FE8-8C81-3BEA926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A403-23CB-4F0D-B3C2-3FB7C9A3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D191-AF48-45E8-A2BA-5DEFE8D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F621-586F-42CD-8D98-1945708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2C69-D53B-4AA2-852C-3DE189C6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1DDA-CFD1-43E7-A1AC-02B89C12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340F-27E6-4C42-BEFA-691BBF23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AEDC-A0B6-4781-96C1-70D11B47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BA89-CDAA-4486-8384-75B1C7A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5EBE-B509-4929-A188-44D1509D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6F00-E257-4872-BF1F-91E6A7D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8E41-7090-4DA5-A229-130496C0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17DF-8FF3-440E-98FA-489A326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43DD-76A7-4BFF-984B-38F52FF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AC9-83F4-4CFB-BC8B-651322ECCC6E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1431-5080-412F-8B16-9F77AB06C591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900" spc="-1" strike="noStrike">
                <a:solidFill>
                  <a:srgbClr val="ffffff"/>
                </a:solidFill>
                <a:latin typeface="Arial"/>
              </a:rPr>
              <a:t>Причины возникновения чисел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зентация группы учащихся «Историков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58760" y="404640"/>
            <a:ext cx="6189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ндейцы в Америке изображали чис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 помощью узелков на верёв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75" name="Line 4"/>
          <p:cNvSpPr/>
          <p:nvPr/>
        </p:nvSpPr>
        <p:spPr>
          <a:xfrm>
            <a:off x="250920" y="5805360"/>
            <a:ext cx="856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8172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730872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61128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1116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169236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2195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2987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3780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716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5651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6443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124000" y="404640"/>
            <a:ext cx="475308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19164" t="11171" r="60350" b="54678"/>
          <a:stretch/>
        </p:blipFill>
        <p:spPr>
          <a:xfrm>
            <a:off x="5076720" y="1413000"/>
            <a:ext cx="935280" cy="143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rcRect l="38101" t="9475" r="44561" b="56374"/>
          <a:stretch/>
        </p:blipFill>
        <p:spPr>
          <a:xfrm>
            <a:off x="622764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rcRect l="53853" t="9475" r="28796" b="56374"/>
          <a:stretch/>
        </p:blipFill>
        <p:spPr>
          <a:xfrm>
            <a:off x="730872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rcRect l="69655" t="9475" r="7807" b="64153"/>
          <a:stretch/>
        </p:blipFill>
        <p:spPr>
          <a:xfrm>
            <a:off x="5076720" y="515772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rcRect l="19164" t="43641" r="54017" b="32471"/>
          <a:stretch/>
        </p:blipFill>
        <p:spPr>
          <a:xfrm>
            <a:off x="5148360" y="364500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7236000" y="5445000"/>
            <a:ext cx="1223640" cy="107964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5520" y="173844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исла первого десятка записыва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ответствующим количеством пало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250920" y="378936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Десять обозначалось скобоч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виде подко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097720" y="577044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Какое это чис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6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6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706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9060"/>
                            </p:stCondLst>
                            <p:childTnLst>
                              <p:par>
                                <p:cTn id="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66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16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176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226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4760"/>
                            </p:stCondLst>
                            <p:childTnLst>
                              <p:par>
                                <p:cTn id="4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rcRect l="44397" t="41946" r="33531" b="30730"/>
          <a:stretch/>
        </p:blipFill>
        <p:spPr>
          <a:xfrm>
            <a:off x="5214960" y="1785960"/>
            <a:ext cx="2000160" cy="181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66520" t="41946" r="6673" b="32471"/>
          <a:stretch/>
        </p:blipFill>
        <p:spPr>
          <a:xfrm>
            <a:off x="1071720" y="1714680"/>
            <a:ext cx="2143080" cy="191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rcRect l="66520" t="65863" r="8235" b="0"/>
          <a:stretch/>
        </p:blipFill>
        <p:spPr>
          <a:xfrm>
            <a:off x="5429160" y="4714920"/>
            <a:ext cx="2141640" cy="1898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908000" y="404640"/>
            <a:ext cx="424836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143240" y="12859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тню обозначали крю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00040" y="1285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Так обозначали тыся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403280" y="5661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57840" y="38577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А  так обозначали милл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4"/>
          <a:srcRect l="41262" t="65863" r="33531" b="0"/>
          <a:stretch/>
        </p:blipFill>
        <p:spPr>
          <a:xfrm>
            <a:off x="1000080" y="4643280"/>
            <a:ext cx="2286000" cy="2024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285840" y="38577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то тысяч обозначали лягуш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rcRect l="41262" t="65863" r="33531" b="0"/>
          <a:stretch/>
        </p:blipFill>
        <p:spPr>
          <a:xfrm>
            <a:off x="2916360" y="3573360"/>
            <a:ext cx="10792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rcRect l="16004" t="67589" r="55616" b="0"/>
          <a:stretch/>
        </p:blipFill>
        <p:spPr>
          <a:xfrm>
            <a:off x="826920" y="3573360"/>
            <a:ext cx="107964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Rectangle 4"/>
          <p:cNvSpPr/>
          <p:nvPr/>
        </p:nvSpPr>
        <p:spPr>
          <a:xfrm>
            <a:off x="1908000" y="260280"/>
            <a:ext cx="4969080" cy="93672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826920" y="184464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3"/>
          <a:srcRect l="19164" t="11171" r="60350" b="54678"/>
          <a:stretch/>
        </p:blipFill>
        <p:spPr>
          <a:xfrm>
            <a:off x="826920" y="1557360"/>
            <a:ext cx="115272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2" name="Picture 7" descr=""/>
          <p:cNvPicPr/>
          <p:nvPr/>
        </p:nvPicPr>
        <p:blipFill>
          <a:blip r:embed="rId4"/>
          <a:srcRect l="38101" t="9475" r="44561" b="56374"/>
          <a:stretch/>
        </p:blipFill>
        <p:spPr>
          <a:xfrm>
            <a:off x="2843280" y="1557360"/>
            <a:ext cx="115236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3" name="Picture 8" descr=""/>
          <p:cNvPicPr/>
          <p:nvPr/>
        </p:nvPicPr>
        <p:blipFill>
          <a:blip r:embed="rId5"/>
          <a:srcRect l="53853" t="9475" r="28796" b="56374"/>
          <a:stretch/>
        </p:blipFill>
        <p:spPr>
          <a:xfrm>
            <a:off x="4716360" y="1557360"/>
            <a:ext cx="11527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9" descr=""/>
          <p:cNvPicPr/>
          <p:nvPr/>
        </p:nvPicPr>
        <p:blipFill>
          <a:blip r:embed="rId6"/>
          <a:srcRect l="19164" t="43641" r="54017" b="32471"/>
          <a:stretch/>
        </p:blipFill>
        <p:spPr>
          <a:xfrm>
            <a:off x="6443640" y="1628640"/>
            <a:ext cx="10810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5" name="Picture 10" descr=""/>
          <p:cNvPicPr/>
          <p:nvPr/>
        </p:nvPicPr>
        <p:blipFill>
          <a:blip r:embed="rId7"/>
          <a:srcRect l="66482" t="65863" r="6673" b="0"/>
          <a:stretch/>
        </p:blipFill>
        <p:spPr>
          <a:xfrm>
            <a:off x="6443640" y="3500280"/>
            <a:ext cx="11509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6" name="Picture 11" descr=""/>
          <p:cNvPicPr/>
          <p:nvPr/>
        </p:nvPicPr>
        <p:blipFill>
          <a:blip r:embed="rId8"/>
          <a:srcRect l="67288" t="41261" r="10640" b="29719"/>
          <a:stretch/>
        </p:blipFill>
        <p:spPr>
          <a:xfrm>
            <a:off x="4859280" y="357336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7" name="Text Box 12"/>
          <p:cNvSpPr/>
          <p:nvPr/>
        </p:nvSpPr>
        <p:spPr>
          <a:xfrm>
            <a:off x="1476360" y="5122800"/>
            <a:ext cx="720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е очень удобно было записывать таким способом числа и совсем неудобно их складывать, вычитать, умножать, дел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7619" t="0" r="0" b="17344"/>
          <a:stretch/>
        </p:blipFill>
        <p:spPr>
          <a:xfrm>
            <a:off x="684360" y="2066760"/>
            <a:ext cx="7416720" cy="191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9" name="Text Box 3"/>
          <p:cNvSpPr/>
          <p:nvPr/>
        </p:nvSpPr>
        <p:spPr>
          <a:xfrm>
            <a:off x="4427640" y="4292640"/>
            <a:ext cx="41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се числа у них составлялись из сочетаний клинышков. Вертикальная чёрточка обозначала одну единицу, а угол из двух лежачих чёрточек- дес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258920" y="4076640"/>
            <a:ext cx="2448000" cy="223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Rectangle 5"/>
          <p:cNvSpPr/>
          <p:nvPr/>
        </p:nvSpPr>
        <p:spPr>
          <a:xfrm>
            <a:off x="611280" y="260280"/>
            <a:ext cx="7200720" cy="108108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 Древнем Вавилоне записывали чис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ыдавливая значки палочкой на глиняной доще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443640" y="5300640"/>
            <a:ext cx="1079640" cy="7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6335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Числа от 1 до 20 обозначались  точками  и чёрточ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685800" y="2227320"/>
            <a:ext cx="7469280" cy="29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Rectangle 5"/>
          <p:cNvSpPr/>
          <p:nvPr/>
        </p:nvSpPr>
        <p:spPr>
          <a:xfrm>
            <a:off x="971640" y="544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Число 45 майя записывали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55640" y="260280"/>
            <a:ext cx="6913440" cy="93672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счёта у народа ма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39640" y="260280"/>
            <a:ext cx="7201080" cy="136836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записи чисел в Древнем 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280360" cy="189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9" name="Rectangle 4"/>
          <p:cNvSpPr/>
          <p:nvPr/>
        </p:nvSpPr>
        <p:spPr>
          <a:xfrm>
            <a:off x="2124000" y="4076640"/>
            <a:ext cx="5400720" cy="1224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для  5 – раскрытая ладо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rcRect l="15509" t="43462" r="41336" b="15050"/>
          <a:stretch/>
        </p:blipFill>
        <p:spPr>
          <a:xfrm>
            <a:off x="900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Rectangle 6"/>
          <p:cNvSpPr/>
          <p:nvPr/>
        </p:nvSpPr>
        <p:spPr>
          <a:xfrm>
            <a:off x="2340000" y="5445000"/>
            <a:ext cx="5184720" cy="107964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 для 10 – две раскрытые лад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3"/>
          <a:srcRect l="51798" t="43462" r="6804" b="11871"/>
          <a:stretch/>
        </p:blipFill>
        <p:spPr>
          <a:xfrm>
            <a:off x="1187280" y="5516640"/>
            <a:ext cx="1008360" cy="115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Picture 8" descr=""/>
          <p:cNvPicPr/>
          <p:nvPr/>
        </p:nvPicPr>
        <p:blipFill>
          <a:blip r:embed="rId4"/>
          <a:srcRect l="51798" t="43462" r="6804" b="11871"/>
          <a:stretch/>
        </p:blipFill>
        <p:spPr>
          <a:xfrm>
            <a:off x="7812000" y="537372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Picture 9" descr=""/>
          <p:cNvPicPr/>
          <p:nvPr/>
        </p:nvPicPr>
        <p:blipFill>
          <a:blip r:embed="rId5"/>
          <a:srcRect l="15509" t="43462" r="41336" b="15050"/>
          <a:stretch/>
        </p:blipFill>
        <p:spPr>
          <a:xfrm>
            <a:off x="7812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189000"/>
            <a:ext cx="6048720" cy="576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1600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Impact"/>
              </a:rPr>
              <a:t>Запись чисел в Древней Ру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843280" y="1700280"/>
            <a:ext cx="56894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Древней Руси буква  «а» обозначала число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Буква        «б»     обозначала число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       2</a:t>
            </a:r>
            <a:br>
              <a:rPr sz="36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бозначения чисел 10, 20,100,…, 900  использовались букв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тличия букв от слов  использовали знак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rcRect l="4858" t="16482" r="23427" b="26099"/>
          <a:stretch/>
        </p:blipFill>
        <p:spPr>
          <a:xfrm>
            <a:off x="4143240" y="371484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384560" cy="28065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0" name="Picture 8" descr=""/>
          <p:cNvPicPr/>
          <p:nvPr/>
        </p:nvPicPr>
        <p:blipFill>
          <a:blip r:embed="rId3"/>
          <a:srcRect l="42911" t="4246" r="32418" b="80715"/>
          <a:stretch/>
        </p:blipFill>
        <p:spPr>
          <a:xfrm>
            <a:off x="324000" y="836640"/>
            <a:ext cx="1152360" cy="1011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5507640" y="3786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ит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4"/>
          <a:stretch/>
        </p:blipFill>
        <p:spPr>
          <a:xfrm>
            <a:off x="1714680" y="4286160"/>
            <a:ext cx="5562360" cy="21607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3" name="Picture 11" descr=""/>
          <p:cNvPicPr/>
          <p:nvPr/>
        </p:nvPicPr>
        <p:blipFill>
          <a:blip r:embed="rId5"/>
          <a:srcRect l="13599" t="16720" r="50400" b="28890"/>
          <a:stretch/>
        </p:blipFill>
        <p:spPr>
          <a:xfrm>
            <a:off x="214200" y="3929040"/>
            <a:ext cx="1600200" cy="25146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4" name="Picture 12" descr=""/>
          <p:cNvPicPr/>
          <p:nvPr/>
        </p:nvPicPr>
        <p:blipFill>
          <a:blip r:embed="rId6"/>
          <a:srcRect l="53030" t="37460" r="14400" b="0"/>
          <a:stretch/>
        </p:blipFill>
        <p:spPr>
          <a:xfrm>
            <a:off x="7500960" y="3643200"/>
            <a:ext cx="1447920" cy="27021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245" name="Text Box 13"/>
          <p:cNvSpPr/>
          <p:nvPr/>
        </p:nvSpPr>
        <p:spPr>
          <a:xfrm>
            <a:off x="3059280" y="83664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Славянские цифровые знаки- буквы с тит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9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490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400"/>
                            </p:stCondLst>
                            <p:childTnLst>
                              <p:par>
                                <p:cTn id="7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640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68440" y="415800"/>
            <a:ext cx="68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е чисел сначала показывали на пальц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>
            <a:lum contrast="18000"/>
          </a:blip>
          <a:srcRect l="59254" t="4669" r="11085" b="18633"/>
          <a:stretch/>
        </p:blipFill>
        <p:spPr>
          <a:xfrm>
            <a:off x="6659640" y="981000"/>
            <a:ext cx="1439640" cy="295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0" name="Picture 4" descr=""/>
          <p:cNvPicPr/>
          <p:nvPr/>
        </p:nvPicPr>
        <p:blipFill>
          <a:blip r:embed="rId2">
            <a:lum contrast="18000"/>
          </a:blip>
          <a:srcRect l="13903" t="4669" r="40752" b="11635"/>
          <a:stretch/>
        </p:blipFill>
        <p:spPr>
          <a:xfrm>
            <a:off x="324000" y="1341360"/>
            <a:ext cx="1944360" cy="34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1656000" cy="20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649920" y="4076640"/>
            <a:ext cx="221940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8"/>
          <p:cNvSpPr/>
          <p:nvPr/>
        </p:nvSpPr>
        <p:spPr>
          <a:xfrm>
            <a:off x="1187280" y="501336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Так начинали учиться считать,  пользуясь т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дала им сама природа,- собственной пятернёй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0.00532 L -0.35416 -0.00532 E">
                                      <p:cBhvr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4 -0.0525 C 0.02379 0.0703 0.06737 0.19311 0.08681 0.24861 C 0.10643 0.30411 0.09584 0.27613 0.09723 0.28053 E">
                                      <p:cBhvr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80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665360" y="6153120"/>
            <a:ext cx="53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Учиться считать требовала 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63640" y="189000"/>
            <a:ext cx="554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до было знать,  хватит ли добычи до следующей ох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олнце2"/>
          <p:cNvPicPr/>
          <p:nvPr/>
        </p:nvPicPr>
        <p:blipFill>
          <a:blip r:embed="rId1"/>
          <a:stretch/>
        </p:blipFill>
        <p:spPr>
          <a:xfrm>
            <a:off x="714240" y="1143000"/>
            <a:ext cx="363564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908000" y="40053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Много ли пойманной ры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11527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6.61425E-006 L 0.46477 6.61425E-006 E">
                                      <p:cBhvr>
                                        <p:cTn id="64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50920" y="33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чисел поначалу были у одного и двух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411280" y="5942160"/>
            <a:ext cx="61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идумывая имя числу  1,    исходили из тог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Солнце на небе одно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rcRect l="42911" t="4246" r="32418" b="80715"/>
          <a:stretch/>
        </p:blipFill>
        <p:spPr>
          <a:xfrm>
            <a:off x="214200" y="121428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6804000" y="3068640"/>
            <a:ext cx="10080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050920" y="4365720"/>
            <a:ext cx="2133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0648 C 0.10556 -0.03653 0.12847 -0.06636 0.2033 -0.08047 C 0.27795 -0.09457 0.47691 -0.08925 0.5316 -0.09087 E">
                                      <p:cBhvr>
                                        <p:cTn id="10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8472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89000"/>
            <a:ext cx="705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для числа 2 во многих языках связано с предметами, встречающимися попар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140360" y="3933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190476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258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крыл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36m2"/>
          <p:cNvPicPr/>
          <p:nvPr/>
        </p:nvPicPr>
        <p:blipFill>
          <a:blip r:embed="rId2"/>
          <a:stretch/>
        </p:blipFill>
        <p:spPr>
          <a:xfrm>
            <a:off x="4788000" y="4724280"/>
            <a:ext cx="1871640" cy="151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26[1]"/>
          <p:cNvPicPr/>
          <p:nvPr/>
        </p:nvPicPr>
        <p:blipFill>
          <a:blip r:embed="rId3"/>
          <a:stretch/>
        </p:blipFill>
        <p:spPr>
          <a:xfrm>
            <a:off x="7596360" y="2924280"/>
            <a:ext cx="1152360" cy="79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508720" y="28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глаз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55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ру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6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6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700000" y="436572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«Три да четыре даёт семь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олучили , заметив, что ковш Большой Медведицы складывается из трёх звёзд ручки и четырёх остальных звёз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97440" cy="345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427640" y="216684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71636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67280" y="155736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780000" y="126828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99564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3635280" y="98100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3203640" y="836640"/>
            <a:ext cx="28872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7280" y="5877000"/>
            <a:ext cx="6696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А научившись считать по пальцам до десяти, люди стали считать десяткам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40556" t="32287" r="18926" b="36527"/>
          <a:stretch/>
        </p:blipFill>
        <p:spPr>
          <a:xfrm>
            <a:off x="6948360" y="981000"/>
            <a:ext cx="7621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1440000" cy="1657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595800" y="16344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альцы оказались прекрасной вычислительной маши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 их помощью можно было считать до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rcRect l="4046" t="31268" r="57699" b="37501"/>
          <a:stretch/>
        </p:blipFill>
        <p:spPr>
          <a:xfrm>
            <a:off x="2484360" y="981000"/>
            <a:ext cx="7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rcRect l="4046" t="63882" r="57622" b="3935"/>
          <a:stretch/>
        </p:blipFill>
        <p:spPr>
          <a:xfrm>
            <a:off x="3851280" y="981000"/>
            <a:ext cx="720720" cy="155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rcRect l="44353" t="0" r="21112" b="69267"/>
          <a:stretch/>
        </p:blipFill>
        <p:spPr>
          <a:xfrm>
            <a:off x="5435640" y="981000"/>
            <a:ext cx="649080" cy="151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rcRect l="4046" t="1480" r="57699" b="68769"/>
          <a:stretch/>
        </p:blipFill>
        <p:spPr>
          <a:xfrm>
            <a:off x="900000" y="1052640"/>
            <a:ext cx="719280" cy="1439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0" y="2924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Если взять две руки,  то и до дес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1067040" cy="118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468360" y="4581360"/>
            <a:ext cx="45720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странах,  где люди ходили босиком, по пальцам легко было считать  до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924360" y="90792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оходили многие – многие годы. Менялась жизнь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>
            <a:lum contrast="6000"/>
          </a:blip>
          <a:srcRect l="7943" t="1532" r="-20937" b="67485"/>
          <a:stretch/>
        </p:blipFill>
        <p:spPr>
          <a:xfrm>
            <a:off x="250920" y="333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640400" y="5153040"/>
            <a:ext cx="451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Людям приходилось всё чащ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талкиваться с большими числ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Нужно было придумать, как их запис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3141720"/>
            <a:ext cx="338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риручили животных, на земле появились первые скотоводы, земледель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500720" y="2492280"/>
            <a:ext cx="3456000" cy="240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050920" y="5013360"/>
            <a:ext cx="2178360" cy="163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7885080" y="4005360"/>
            <a:ext cx="10429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68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68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7457E-006 L -0.13385 -2.77457E-006 E">
                                      <p:cBhvr>
                                        <p:cTn id="29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68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79280" y="404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ервым способом  «записи» чисел были зарубки на пал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266364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476360" y="3213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глиняные шар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rcRect l="14296" t="0" r="33309" b="76083"/>
          <a:stretch/>
        </p:blipFill>
        <p:spPr>
          <a:xfrm>
            <a:off x="2195640" y="3933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rcRect l="14296" t="0" r="33309" b="76083"/>
          <a:stretch/>
        </p:blipFill>
        <p:spPr>
          <a:xfrm>
            <a:off x="6516720" y="3860640"/>
            <a:ext cx="719280" cy="79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rcRect l="14296" t="0" r="33309" b="76083"/>
          <a:stretch/>
        </p:blipFill>
        <p:spPr>
          <a:xfrm>
            <a:off x="4356000" y="3933720"/>
            <a:ext cx="79236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2050920" y="44370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  другие фигу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5"/>
          <a:srcRect l="62081" t="0" r="0" b="69037"/>
          <a:stretch/>
        </p:blipFill>
        <p:spPr>
          <a:xfrm>
            <a:off x="1763640" y="530064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6"/>
          <a:srcRect l="62081" t="28606" r="-3457" b="45209"/>
          <a:stretch/>
        </p:blipFill>
        <p:spPr>
          <a:xfrm>
            <a:off x="3564000" y="573408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7"/>
          <a:srcRect l="0" t="59531" r="48290" b="19011"/>
          <a:stretch/>
        </p:blipFill>
        <p:spPr>
          <a:xfrm>
            <a:off x="4500720" y="5734080"/>
            <a:ext cx="1366560" cy="64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8"/>
          <a:srcRect l="0" t="23828" r="37955" b="59531"/>
          <a:stretch/>
        </p:blipFill>
        <p:spPr>
          <a:xfrm>
            <a:off x="6012000" y="566100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9">
            <a:lum contrast="36000"/>
          </a:blip>
          <a:srcRect l="13756" t="40533" r="34462" b="38060"/>
          <a:stretch/>
        </p:blipFill>
        <p:spPr>
          <a:xfrm>
            <a:off x="7596360" y="5734080"/>
            <a:ext cx="108108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 0.007 -0.04928 0.015 -0.04928 C 0.024 -0.04928 0.027 -0.0253 0.03 0 C 0.034 0.02797 0.037 0.05594 0.047 0.05594 C 0.056 0.05594 0.059 0.02797 0.063 0 C 0.065 -0.0253 0.069 -0.04928 0.078 -0.04928 C 0.086 -0.04928 0.09 -0.0253 0.093 0 C 0.096 0.02797 0.1 0.05594 0.109 0.05594 C 0.118 0.05594 0.125 0 0.125 0 C 0.128 -0.0253 0.131 -0.04928 0.14 -0.04928 C 0.149 -0.04928 0.152 -0.0253 0.155 0 C 0.159 0.02797 0.162 0.05594 0.172 0.05594 C 0.181 0.05594 0.184 0.02797 0.187 0 C 0.191 -0.0253 0.194 -0.04928 0.203 -0.04928 C 0.211 -0.04928 0.215 -0.0253 0.218 0 C 0.221 0.02797 0.225 0.05594 0.234 0.05594 C 0.243 0.05594 0.246 0.02797 0.25 0 E">
                                      <p:cBhvr>
                                        <p:cTn id="33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1214E-006 C 0.0026 -0.0252 0.00642 -0.04925 0.01371 -0.04925 C 0.02222 -0.04925 0.025 -0.0252 0.02778 2.31214E-006 C 0.0316 0.02797 0.0342 0.05595 0.04358 0.05595 C 0.05208 0.05595 0.05469 0.02797 0.05851 2.31214E-006 C 0.06024 -0.0252 0.06389 -0.04925 0.07239 -0.04925 C 0.07969 -0.04925 0.08351 -0.0252 0.08646 2.31214E-006 C 0.08906 0.02797 0.09288 0.05595 0.10121 0.05595 C 0.10955 0.05595 0.11614 2.31214000000001E-006 0.11614 0.00023 C 0.11875 -0.0252 0.1217 -0.04925 0.12986 -0.04925 C 0.13837 -0.04925 0.14114 -0.0252 0.14392 2.31214E-006 C 0.14774 0.02797 0.15035 0.05595 0.15972 0.05595 C 0.16823 0.05595 0.17083 0.02797 0.17361 2.31214E-006 C 0.17743 -0.0252 0.18003 -0.04925 0.18854 -0.04925 C 0.19583 -0.04925 0.19965 -0.0252 0.2026 2.31214E-006 C 0.20521 0.02797 0.20903 0.05595 0.21736 0.05595 C 0.22569 0.05595 0.22847 0.02797 0.23229 2.31214E-006 E">
                                      <p:cBhvr>
                                        <p:cTn id="33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-0.00324 C -0.03246 -0.02844 -0.02847 -0.05249 -0.02048 -0.05249 C -0.01146 -0.05249 -0.00833 -0.02844 -0.00538 -0.00324 C -0.00139 0.02474 0.00157 0.05271 0.01163 0.05271 C 0.02066 0.05271 0.02361 0.02474 0.02761 -0.00324 C 0.02952 -0.02844 0.03351 -0.05249 0.04254 -0.05249 C 0.05052 -0.05249 0.05452 -0.02844 0.05764 -0.00324 C 0.06059 0.02474 0.06459 0.05271 0.07361 0.05271 C 0.08264 0.05271 0.08959 -0.00324 0.08959 -0.00301 C 0.09254 -0.02844 0.09566 -0.05249 0.10452 -0.05249 C 0.11354 -0.05249 0.11667 -0.02844 0.11962 -0.00324 C 0.12361 0.02474 0.12657 0.05271 0.13663 0.05271 C 0.14566 0.05271 0.14861 0.02474 0.15157 -0.00324 C 0.15556 -0.02844 0.15851 -0.05249 0.16754 -0.05249 C 0.17552 -0.05249 0.17952 -0.02844 0.18264 -0.00324 C 0.18559 0.02474 0.18959 0.05271 0.19861 0.05271 C 0.20764 0.05271 0.21059 0.02474 0.21459 -0.00324 E">
                                      <p:cBhvr>
                                        <p:cTn id="33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9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10:38Z</dcterms:created>
  <dc:creator>Main</dc:creator>
  <dc:description/>
  <dc:language>en-US</dc:language>
  <cp:lastModifiedBy>Admin</cp:lastModifiedBy>
  <dcterms:modified xsi:type="dcterms:W3CDTF">2010-05-13T18:40:32Z</dcterms:modified>
  <cp:revision>3</cp:revision>
  <dc:subject/>
  <dc:title>История возникновения чисел</dc:title>
</cp:coreProperties>
</file>